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79A-1EB2-4216-9E4B-1DFBACB3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07B-F00E-4B44-97D9-A253B3B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570-06AA-442E-8C83-E5D9024C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6AC-398E-4179-BCF1-89A099D4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768-2BF4-451A-9144-A13AD68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5C9-F695-4033-A9C9-FAA21834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02A-E26B-45D6-B155-5192979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0DF-D68F-41E4-A123-A0CFBD3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B71-0211-4878-AAB8-9C0ED95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5A9-743A-4190-BEBB-1718A221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B48-7CBB-4C5C-8F1F-7F56F27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4C5-BB29-4CA8-BF38-CBBA029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4AC2-F513-49B0-AAA4-613D9EA4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05:19Z</dcterms:created>
  <dc:creator>Grupo Editorial</dc:creator>
  <dc:description/>
  <dc:language>en-US</dc:language>
  <cp:lastModifiedBy>Grupo Editorial</cp:lastModifiedBy>
  <dcterms:modified xsi:type="dcterms:W3CDTF">2001-09-28T08:07:34Z</dcterms:modified>
  <cp:revision>1</cp:revision>
  <dc:subject/>
  <dc:title>Sin título de diapositiva</dc:title>
</cp:coreProperties>
</file>